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D7F-E25D-47B5-82A8-D6AC5F71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B40-777D-4CAE-BFD2-790FCFAE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67D-95BF-4EEC-A460-E901D27F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1D3-7DEF-4B77-A8AC-0BDB47E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A43-16DF-4016-B34F-38B5111A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CAB-5F7A-49FD-9E05-7F5F1CDB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0BC-31D9-48F7-A635-52D2CE6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4B3-6895-456F-BCBA-252029E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81F-ABF6-42A6-BDCA-2237719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108-28A2-49D3-94CE-DB84BFE3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3E4-4FE3-4533-84DF-A3525503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2E5-C0E5-4B37-85AA-A54154B7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C25-EEE9-4953-A7BE-C5F0C05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CAF-0818-4135-BABA-6795B903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FBE4-DA0B-4DBF-BF16-D6DDF38BD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arissa Viruet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r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a military st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static6.depositphotos.com/1000865/581/i/450/dep_5818559-Statue-of-king-Leonidas-in-Sparta-Greece.jpg"/>
          <p:cNvPicPr/>
          <p:nvPr/>
        </p:nvPicPr>
        <p:blipFill>
          <a:blip r:embed="rId1"/>
          <a:stretch/>
        </p:blipFill>
        <p:spPr>
          <a:xfrm>
            <a:off x="2743200" y="2571840"/>
            <a:ext cx="2876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1905120" y="3276720"/>
            <a:ext cx="5038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85800" y="990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hill which the Greeks built their city-states a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9880" y="380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destination360.com/europe/greece/images/s/acropolis-museum.jpg"/>
          <p:cNvPicPr/>
          <p:nvPr/>
        </p:nvPicPr>
        <p:blipFill>
          <a:blip r:embed="rId1"/>
          <a:stretch/>
        </p:blipFill>
        <p:spPr>
          <a:xfrm>
            <a:off x="1676520" y="1828800"/>
            <a:ext cx="46386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eek word for city-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www.realholidayreports.com/hotel_pics/The_Marion_Hotel_Polis.jpg"/>
          <p:cNvPicPr/>
          <p:nvPr/>
        </p:nvPicPr>
        <p:blipFill>
          <a:blip r:embed="rId1"/>
          <a:stretch/>
        </p:blipFill>
        <p:spPr>
          <a:xfrm>
            <a:off x="1523880" y="2057400"/>
            <a:ext cx="512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was rights &amp; responsibilities in his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1shortstop.files.wordpress.com/2008/12/citizenship1.gif?w=497"/>
          <p:cNvPicPr/>
          <p:nvPr/>
        </p:nvPicPr>
        <p:blipFill>
          <a:blip r:embed="rId1"/>
          <a:stretch/>
        </p:blipFill>
        <p:spPr>
          <a:xfrm>
            <a:off x="2286000" y="2895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ancient Greece, only_____could be citizen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greece.mrdonn.org/dailyl1.gif"/>
          <p:cNvPicPr/>
          <p:nvPr/>
        </p:nvPicPr>
        <p:blipFill>
          <a:blip r:embed="rId1"/>
          <a:stretch/>
        </p:blipFill>
        <p:spPr>
          <a:xfrm>
            <a:off x="3581280" y="4191120"/>
            <a:ext cx="8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and slave’s were not allowed to be citizen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greece.mrdonn.org/women.gif"/>
          <p:cNvPicPr/>
          <p:nvPr/>
        </p:nvPicPr>
        <p:blipFill>
          <a:blip r:embed="rId1"/>
          <a:stretch/>
        </p:blipFill>
        <p:spPr>
          <a:xfrm>
            <a:off x="2895480" y="3124080"/>
            <a:ext cx="25815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://www.richeast.org/htwm/Greeks/Polis/council.gif"/>
          <p:cNvPicPr/>
          <p:nvPr/>
        </p:nvPicPr>
        <p:blipFill>
          <a:blip r:embed="rId1"/>
          <a:stretch/>
        </p:blipFill>
        <p:spPr>
          <a:xfrm>
            <a:off x="2590920" y="3657600"/>
            <a:ext cx="3247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ecx.images-amazon.com/images/I/51nuofUm2wL._SL500_AA300_.jpg"/>
          <p:cNvPicPr/>
          <p:nvPr/>
        </p:nvPicPr>
        <p:blipFill>
          <a:blip r:embed="rId1"/>
          <a:stretch/>
        </p:blipFill>
        <p:spPr>
          <a:xfrm>
            <a:off x="2438280" y="3352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by 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monarchy” comes from to Greek wo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ed101.bu.edu/StudentDoc/current/ED101sp10/ktessman/Images/spartawarrior.jpg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3:30Z</dcterms:modified>
  <cp:revision>99</cp:revision>
  <dc:subject/>
  <dc:title>Ancient Greece</dc:title>
</cp:coreProperties>
</file>